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12DB5-A6D6-4EB0-9C6A-BF8284E7A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FDE64-C9EA-41FC-BB1B-728B12C5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2A68D-10FD-42FA-A168-50AF256D3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DD968-A178-4806-969B-95223B6E9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886B-5EB9-4087-A356-2C7C39260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2F6E-4289-4B84-8A91-AD290719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FDC6-5C32-4508-9DC1-82C4700C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DA49F-EE15-4E63-9AFA-448613C3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6BEA-9885-418F-92F0-B1587EFB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F193-9418-4931-A072-D73B76C1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6C66-71D0-4E1B-961E-628DE5A3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00292-C0E5-436B-9687-5E943CDD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45699-CCFF-4406-B635-48AA10B5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410A-D8FD-436A-A84C-E4AE850F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98F8-96E9-434E-B2C9-60973A8D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BE13-D5DC-4CC2-998F-8B7370535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D929-E6D8-4F92-84A9-5E5A68474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25131-754A-4E52-95DA-45F61CB1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41EDC-EF8E-4A5C-B191-78751A67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6C808-E41A-4CF4-AE9B-5A634682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AC2A9-5D94-4853-AECC-533287C9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5F51D-0393-4B78-999C-9215C923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899B7-5FA2-454B-A04C-1B556194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66C20-7BA8-41D3-9B8F-57A4EB1D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6D09-5679-480A-9C57-73414D2758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96C2-37F7-41CC-A399-3E2327CCCF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A 3D Interface for the Fluid Beam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Lübomira Spassov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GK, Saarland Univers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fining Display Cont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irtual Display Move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3D Model Acquisi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3D Model Acquisi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urrent master thesis uses the idea of the stereo vision method replacing one of the cameras by a project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rresponding points problem: the reference pattern for the triangulation is projected on the surface and matched with the corresponding pattern in the camera ima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s method requires complex calibration techniques for both the camera and the project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alibration of the Camera Projector Pair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1996920"/>
            <a:ext cx="4038480" cy="3160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648320" y="1996920"/>
            <a:ext cx="4038480" cy="3160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68360" y="5229360"/>
            <a:ext cx="3959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mera ↔ su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16360" y="5229360"/>
            <a:ext cx="3959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jector ↔ su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6094440"/>
            <a:ext cx="82296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oftware: GML (Graphics &amp; Media Lab), MSU uses openCV libr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th Find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th Find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going diploma thesis about avatar movement in an instrumented environment using the Fluid Beam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utes a path between two given points in the room avoiding obstac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th finding algorithm can be integrated into the 3D interface applic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ath Finding Algorithm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Given a room model, an appropriate path network is crea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Different types of edges have different costs (weights)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horizontalCost = 5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verticalCost = 1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cornerCost = 3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obstaclePassCost = 5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Given a start and an end point, a path with minimal cost is calculated (Dijkstra implementation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bstacles and Avatar Move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Obstacle typ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Detourable obstacles (small windows, frames, wall-mounted display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Non-detourable obstacles (columns, large window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Avatar movement must avoid slant path segm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Tunnel metaphor for non-detourable obstacles that cannot be avoide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D Interface enables an easy and intuitive interaction with virtual display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urrent implemented interactions include: model navigation, display creation, content specification (drag and drop for images and videos), display movement and dele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interface can be enhanced in order to serve as a tool for the programmer developing complex presentation scenarios by integrating a path finding algorithm and an automated 3D model gene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utl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sic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tiv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alis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ac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D model acquisi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th find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areas, summary &amp; future wor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m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ssible Application Are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opping scenario: definition of advertisement applications, initialisation of product associated display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ge applications: setting up scenarios for special effe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useum environment: definition of key points for user navigation and display content for each exhibi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uture Wor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hance the implemented operation techniques providing more comfortable interaction (adjustable display size and position using world coordinate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 a tool that enables the definition of screen segments as display content (live video stream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grate the 3D model acquisition and the path finding algorithm into the interface applic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ank You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sic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59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Fluid Beam: steerable projector and camera unit mounted in the centre of the ceiling of the instrumented roo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Enables distortion-free projection on any surface in the environ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Surfaces in the room are virtually covered with a layer on which projected display (“virtual displays”) can be placed and mov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726240" y="1603440"/>
            <a:ext cx="1949400" cy="1465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719760" y="3284640"/>
            <a:ext cx="1955880" cy="1466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6300720" y="4932360"/>
            <a:ext cx="23893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tiv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cilitate the creation of virtual display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able definition of elaborate presentation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fine virtual display move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fine and change display cont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ol for the professional user (developer) setting up a new presentation scenario rather than for the end us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alis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D representation of the instrumented room in a Java window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rfaces suitable for projection represented by grey colour, obstacles displayed in yellow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716360" y="1700280"/>
            <a:ext cx="4038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raction (1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ragging the right mouse button rotates the 3D model around the viewpoi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ragging the left mouse button creates a new virtual display in the model (possible only on grey surface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fter creation the virtual displays appear at the corresponding positions in the roo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3D Model Navig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185920" y="1503360"/>
            <a:ext cx="477216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irtual Display Cre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raction (2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ages and videos can be transferred to the created virtual displays using drag and dro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rtual displays can be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ved by dragging the corresponding representations in the 3D mod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leted by left mouse double-click on th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0:19:06Z</dcterms:created>
  <dc:creator>mira</dc:creator>
  <dc:description/>
  <dc:language>en-US</dc:language>
  <cp:lastModifiedBy>mira</cp:lastModifiedBy>
  <dcterms:modified xsi:type="dcterms:W3CDTF">2006-01-31T13:29:52Z</dcterms:modified>
  <cp:revision>13</cp:revision>
  <dc:subject/>
  <dc:title>3D Interface for the Fluid Beam</dc:title>
</cp:coreProperties>
</file>