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2AE8-9010-4572-8C00-8C49F4BA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3BB8-7A97-460D-8B5F-14F1B852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8300C-775B-47DF-A699-78D3B4D9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AC7B-AF57-4FAA-BE78-B3EE5BAB9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08C4-5387-4B9E-9FDA-B31E7935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FEDF8-9325-48D2-9265-EB072B84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9BAA-88EF-4B0F-A06D-78827078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CB17-EED9-43ED-B5EB-E0F898FE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63BD-D814-450A-A218-922AAE45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0A00-E923-4834-B2F2-1CB1553E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059C-854B-44E2-9577-8A72A49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B23B-424A-4C51-A1DC-E81920D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3BF7-52A9-4687-AA8E-CE7D256F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10A0-3B2F-4F9F-9696-DAA5340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81B2-B4E8-4B28-BFD0-A59C8B86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C5E7-327D-481E-BB2E-D0BD200A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43A7-6A6A-498B-A85A-29D637A9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C5CD-E126-4C36-B8F6-F4D970CF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6EC12-7219-4417-8004-5B76DFD2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5307-39C5-49F8-9A29-9F5B161A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B7E3-6C77-4B9B-8A96-227041DD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64E2-6BEA-45BB-BAC0-0B8CC93B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341C3-9D3D-4435-BEFE-78FD9F3E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CD8A-1356-4B29-8FCD-52170E2A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E7DC-6B83-40A8-8318-05A9A1BBEF0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F1E2-E214-4735-900C-3CFFDD85DA1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How much is the new U2-C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20 Eu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And the one from 2Pac?  /  &gt; 2Pa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2Pac didn’t release any CD las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uria</cp:lastModifiedBy>
  <dcterms:modified xsi:type="dcterms:W3CDTF">2005-02-02T09:27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9952577</vt:r8>
  </property>
  <property fmtid="{D5CDD505-2E9C-101B-9397-08002B2CF9AE}" pid="3" name="_AuthorEmail">
    <vt:lpwstr>nuriabc@gmx.net</vt:lpwstr>
  </property>
  <property fmtid="{D5CDD505-2E9C-101B-9397-08002B2CF9AE}" pid="4" name="_AuthorEmailDisplayName">
    <vt:lpwstr>Nuria Bertomeu</vt:lpwstr>
  </property>
  <property fmtid="{D5CDD505-2E9C-101B-9397-08002B2CF9AE}" pid="5" name="_EmailSubject">
    <vt:lpwstr>präsentation</vt:lpwstr>
  </property>
</Properties>
</file>