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48F5E-8C62-48B4-B454-6A2E853B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B54AE-E9F2-4CD4-B317-7B2C097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2D4C-3E60-403E-AFA8-4E7A5B3D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1047-DD9F-45A8-AE56-98CE4A65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FE81-2498-4E6D-84BB-6BFFF450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BC0E-8464-472C-A68A-798F55A3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C554-27EF-49F1-90C7-F1DE342B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BF9B-54C6-47A1-B6E6-6F093C62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3ACF-C41C-44DC-A453-3016B181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0E33-08F7-463E-A706-48B99E9B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4104-3707-4D8A-8248-65728BD1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4A31-B43B-4B0A-A271-DBF325D8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FF5B-7CAE-46C7-B6AC-4B47C5F3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F0B-5784-4196-ACF0-1125B48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5F80-112C-42D5-828C-933258D2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C958-0926-4393-A4A5-AF69B8F9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ECB4-CCF5-42A5-8849-A1ABA6EF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333EB-CBB2-4B8D-A433-F7457D63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160C6-8053-491B-A910-1AEA2670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DBFC-C3F3-4A88-916E-9139ADDE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34E7-9F4A-4876-998E-03EF2FF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8CB3-2F6B-45E7-A897-18A3031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E2A0-0EC2-4EDA-9872-FDE120A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3DB2A-5FBC-47E5-9652-E08D23E1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96BD-4EE6-406B-8D43-6776C1A010F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439-9DEF-42DC-B87A-3A136A6D2FB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26560" y="764640"/>
            <a:ext cx="8007480" cy="53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Has Anastacia released any (new) CDs in the last y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Yes, “Left outside alo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How many in tot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 Any priz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43:2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42313112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