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6E1F9-5710-4A9A-9AE2-D051BACC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D23D6-4536-40B2-96B6-FD447583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2BC43-AE80-435F-85F8-985666C2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E8E2E-1B79-481B-A20E-2B728BBE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E3D2-86B0-4F3E-B643-8C3E0EB4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E670-11BC-45AE-8D0C-56A5A3BB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671D-AD11-4CA4-9CBF-DA86FCB5D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AB2E-062E-4E61-AE69-8F7870AB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5E1E-3FF8-40CC-8BB2-E8FA8ED8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E3BD-9C6B-4FFA-99D3-F92E8C7A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DAD0-A362-4CBC-9E7C-377A5388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17704-6134-4D47-8517-DE0D110D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DC2A-280C-4D9E-B9DA-084BE597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17583-D660-4486-9DF5-7EB92E98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176ED-E74E-4BD2-A2D6-59E8E291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6281-224F-4F59-9EBE-675EA65B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DB62-DCC4-4217-8BFC-5BA51637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4179D-C563-40DA-99EA-3D47FE78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2C803-B83E-4438-AA06-43F04147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B4DA5-7DF8-47F9-BB7F-33D69FB6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3D246-C724-4545-A83B-AD3AEB46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CB0FE-0E59-4E48-A4D4-A57F2DCB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1B157-775C-40B0-ADD0-CB537D66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2D05-F9D5-46B9-84DA-85127A81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459E-D985-40EB-AE80-A0528C903D8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7B2D-A45F-4009-A810-13E3AC6E231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How many people work in the pro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4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Who are the professors invol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uria</cp:lastModifiedBy>
  <dcterms:modified xsi:type="dcterms:W3CDTF">2005-02-02T10:06:4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84964523</vt:r8>
  </property>
  <property fmtid="{D5CDD505-2E9C-101B-9397-08002B2CF9AE}" pid="3" name="_AuthorEmail">
    <vt:lpwstr>nuriabc@gmx.net</vt:lpwstr>
  </property>
  <property fmtid="{D5CDD505-2E9C-101B-9397-08002B2CF9AE}" pid="4" name="_AuthorEmailDisplayName">
    <vt:lpwstr>Nuria Bertomeu</vt:lpwstr>
  </property>
  <property fmtid="{D5CDD505-2E9C-101B-9397-08002B2CF9AE}" pid="5" name="_EmailSubject">
    <vt:lpwstr>präsentation</vt:lpwstr>
  </property>
</Properties>
</file>