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FEA8-E96F-4851-9889-08743F88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4E08-FAF9-497E-9AB2-9220DA85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BF284-E800-4750-952D-2F3EE796E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1831C-DBFE-4B29-A644-6A5587D9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ACD1-9683-49E0-8CDA-DC03115B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AA34-2AD1-451D-8DC2-D4936339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BB5E-2012-46C2-BC5B-E3250707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7FD3-1F53-4E5A-A9D9-754F4D49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6EE2-09AF-445F-B1AB-8DD3BFDE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AC1B-A36B-464A-91E7-B6F63A5E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2864-0F64-4D35-AF9D-83AB12AF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CA3B7-C899-4B65-AAD9-F3424497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DD45-0B2F-4520-A176-7EA36C00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562B-9B92-463A-A629-7650907A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1CA9-1B46-4401-BFBE-6F601809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DAB4-E42F-4FFA-A01B-AA03D1B7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02BA-23B8-4866-9347-691A2CC9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C197B-9FE7-4C5F-85F0-7DACE2F7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E7ED-A4F9-43C6-BDFA-859267A5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9AD9-5B20-421B-B7C9-5DBF541B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9F403-23F2-48AB-A49A-D2C88929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A6962-D8EE-441D-9A64-BE5D0229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A152E-AB84-482F-B5B7-A345FA43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2B46B-0B78-4342-8E00-87AED020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EE86-05C0-4F3B-84F9-5618478208C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BD86-B57A-4C37-B25C-FF7D9A921BD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hich is the most successful book in Germa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&gt; „The Lord of the Rings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 Who is the auth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uria</cp:lastModifiedBy>
  <dcterms:modified xsi:type="dcterms:W3CDTF">2005-02-02T09:46:5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32167457</vt:r8>
  </property>
  <property fmtid="{D5CDD505-2E9C-101B-9397-08002B2CF9AE}" pid="3" name="_AuthorEmail">
    <vt:lpwstr>nuriabc@gmx.net</vt:lpwstr>
  </property>
  <property fmtid="{D5CDD505-2E9C-101B-9397-08002B2CF9AE}" pid="4" name="_AuthorEmailDisplayName">
    <vt:lpwstr>Nuria Bertomeu</vt:lpwstr>
  </property>
  <property fmtid="{D5CDD505-2E9C-101B-9397-08002B2CF9AE}" pid="5" name="_EmailSubject">
    <vt:lpwstr>präsentation</vt:lpwstr>
  </property>
</Properties>
</file>