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1BEED-88BF-4221-930A-940FB06E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DE6CC-E186-41BF-B5DD-CF387D9F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CC1A-6ED4-4E07-970C-D3524BCD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40C0-424B-46B6-8655-E8283974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DF64-AE27-4E12-889D-A940267D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0A81-5CD7-4F54-89C5-C73B364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1FCE-DE2F-401B-A121-468EAF5F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FA17-2342-4DDC-89EA-D43B84B2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B951-7B0A-45C8-957E-B082CD45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B23E-17CD-4E84-9ADE-C73126BD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A267-079D-4484-BECC-A0C1D22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8530-78CF-41ED-B544-FB83605C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1B4C-57EE-4492-8729-E08AF236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C89-76B7-46BD-A13B-058C41B9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5393-5600-45E0-9037-EE098DCA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BCA-1F0B-445D-9B87-23DFF997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02A2-5B7C-44E0-B0F4-ACB02A23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FB49E-7701-4B57-857C-B70F676A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7D4E-71FC-465E-9955-7491C45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A7ADD-CCB9-4577-A2B6-3E1549FA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5868-0586-46F0-96E8-3FA586A6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5850-D097-40B0-961D-6DA9D63E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DA14C-F97E-438C-85A9-19EBC9E2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34B2C-D6B9-4495-9332-DBB269A6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AD87-A41D-4F12-A135-889598E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D575-2019-4073-920F-65C0E6C6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DF18-0FC9-4DB4-9DEC-2B737545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AF0CF-FC69-449D-BF2F-D9AF1DC2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3037-946B-4629-A40C-D208496A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150E-4093-410C-8C27-062DDADD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4138-8616-4016-8146-92009F19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F7884-3E16-4808-AA25-1E8976EE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83BF1-AFF2-4939-9001-55FDEBA5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339C-AF13-47C8-8B73-DC8D3FE5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E058-73EE-4899-A888-7970D9B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6C4B-C9EE-4D44-A441-2ABA5B36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9529-17EA-41C5-A5E0-6288ACAB439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BD37-0F08-428C-B2D6-AB1FA838EE5B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7C5F-BD7A-4ADB-9E10-C51E24A87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elliptical_quest.ppt" TargetMode="External"/><Relationship Id="rId2" Type="http://schemas.openxmlformats.org/officeDocument/2006/relationships/hyperlink" Target="file:///non_ling_antecedents.ppt" TargetMode="External"/><Relationship Id="rId3" Type="http://schemas.openxmlformats.org/officeDocument/2006/relationships/hyperlink" Target="file:///partial.ppt" TargetMode="External"/><Relationship Id="rId4" Type="http://schemas.openxmlformats.org/officeDocument/2006/relationships/hyperlink" Target="file:///semantic_ellipsis.ppt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987640" y="1916280"/>
            <a:ext cx="600408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"/>
              </a:rPr>
              <a:t>Towards a Model of Reference and Ellipsis Resolution for Question Answering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úria Bertomeu Castell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upervisor: Hans Uszkor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and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tecedent is an open question or task whose resolution requires the resolution of dependent questions or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you know what the movie is ab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Which on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The one he wants to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No, no id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s about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peaker has his own plan about actions with pointers to the utterances which accomplish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 or tasks which are resolved get a hack, which means they are closed ma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t questions are popped out after their resolution. The unresolved dominant question becomes available and it can still be answered ellip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95280" y="836640"/>
          <a:ext cx="4316400" cy="5138640"/>
        </p:xfrm>
        <a:graphic>
          <a:graphicData uri="http://schemas.openxmlformats.org/drawingml/2006/table">
            <a:tbl>
              <a:tblPr/>
              <a:tblGrid>
                <a:gridCol w="814320"/>
                <a:gridCol w="744480"/>
                <a:gridCol w="609840"/>
                <a:gridCol w="666720"/>
                <a:gridCol w="668160"/>
                <a:gridCol w="812880"/>
              </a:tblGrid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…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411280" y="189000"/>
            <a:ext cx="486000" cy="549360"/>
          </a:xfrm>
          <a:prstGeom prst="downArrow">
            <a:avLst>
              <a:gd name="adj1" fmla="val 50000"/>
              <a:gd name="adj2" fmla="val 28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40000" y="6021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003640" y="1197000"/>
          <a:ext cx="1783080" cy="3887640"/>
        </p:xfrm>
        <a:graphic>
          <a:graphicData uri="http://schemas.openxmlformats.org/drawingml/2006/table">
            <a:tbl>
              <a:tblPr/>
              <a:tblGrid>
                <a:gridCol w="1783080"/>
              </a:tblGrid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ction plan </a:t>
                      </a:r>
                      <a:r>
                        <a:rPr b="0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30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k Q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28 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k Q28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swer Q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7199280" y="1197000"/>
          <a:ext cx="1782720" cy="3887280"/>
        </p:xfrm>
        <a:graphic>
          <a:graphicData uri="http://schemas.openxmlformats.org/drawingml/2006/table">
            <a:tbl>
              <a:tblPr/>
              <a:tblGrid>
                <a:gridCol w="1782720"/>
              </a:tblGrid>
              <a:tr h="38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ction plan </a:t>
                      </a:r>
                      <a:r>
                        <a:rPr b="0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27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swer Q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nswer Q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buClr>
                          <a:srgbClr val="33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sk Q27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 flipH="1">
            <a:off x="4716000" y="4365720"/>
            <a:ext cx="2808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1600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88000" y="3284280"/>
            <a:ext cx="25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788000" y="2204640"/>
            <a:ext cx="25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4787640" y="1628280"/>
            <a:ext cx="93636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24360" y="1125360"/>
            <a:ext cx="1368720" cy="3959280"/>
          </a:xfrm>
          <a:custGeom>
            <a:avLst/>
            <a:gdLst/>
            <a:ahLst/>
            <a:rect l="l" t="t" r="r" b="b"/>
            <a:pathLst>
              <a:path w="861" h="2509">
                <a:moveTo>
                  <a:pt x="0" y="392"/>
                </a:moveTo>
                <a:cubicBezTo>
                  <a:pt x="68" y="196"/>
                  <a:pt x="136" y="0"/>
                  <a:pt x="272" y="302"/>
                </a:cubicBezTo>
                <a:cubicBezTo>
                  <a:pt x="408" y="604"/>
                  <a:pt x="771" y="1905"/>
                  <a:pt x="816" y="2207"/>
                </a:cubicBezTo>
                <a:cubicBezTo>
                  <a:pt x="861" y="2509"/>
                  <a:pt x="589" y="2131"/>
                  <a:pt x="544" y="2116"/>
                </a:cubicBez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QUD mod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KOS, Ginzburg, 1996, 1999; Cooper et al., 1999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a stack of Questions under Discu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X-QUD is available as antece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presupposes too much cooperativity. Answers and sub-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ck architecture doesn’t rule out examples lik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was the mov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didn’t see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, I haven’t been for a long time to the movies, I’m very busy at the mo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see. ??Good. / It was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vious answer, the previous question and maybe even previous turns can behave as antece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seminar on psychology next semes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sev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one on Tuesdays, 9-11 a.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eminar ro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on Thursday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guistic cues like the conjunction “and” can help us to identify antece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sometimes false antecedents which syntactically fit with the fragment, but not seman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Has Anastasia released any CD last y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 Yes, “Left outside alon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Any priz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ing parallel elements according to sortal restri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ing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ay be some degree of uncertainty with respect to which antecedent a fragment should be res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ncts tend to be inherited if they are not competing. However, it is not so straightforward to decide whether they indeed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s there any horror mov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Yes, there are 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d with Bruce Willi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 it is world knowledge which tells us whether an adjunct should b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at is planned for the opening ceremony of the Olympic Games in Pe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d for the Football World Championshi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IE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z &amp; Sidner (1986) propose a stack to keep track of the entities and properties introduced in the previous discourse which are in the focus of att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at the top of the stack are more salient and can be referred to by prono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 deeper in the stack are less salient and can be referred to by definite descri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tions (hierarchically organized) regulate the focus st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a sub-task is introduced the preceding sub-task at the same level is popp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a task higher in the hierarchy is introduced the previous sub-task is popp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topic is changed the stack is popped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r data-structure regulated by the action plans of the DPs could behave like the focus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only elements mentioned in the previous discourse can be in focus of attention, but also elements from th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after hearing a sudden noise] – What’s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Ps may direct their attention to different things, so the focus of attention is parametrizable by each 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Yeah, I agree that Mary is in tro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 Mary? I was talking about Ann. What are you thinking abou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pted information from the discourse-record gets integrated in Shared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24000" y="2276640"/>
            <a:ext cx="6912000" cy="4122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71640" y="738360"/>
          <a:ext cx="4956120" cy="4657680"/>
        </p:xfrm>
        <a:graphic>
          <a:graphicData uri="http://schemas.openxmlformats.org/drawingml/2006/table">
            <a:tbl>
              <a:tblPr/>
              <a:tblGrid>
                <a:gridCol w="1015920"/>
                <a:gridCol w="890640"/>
                <a:gridCol w="1017360"/>
                <a:gridCol w="101628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31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…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6156360" y="1386000"/>
            <a:ext cx="431640" cy="1368360"/>
          </a:xfrm>
          <a:custGeom>
            <a:avLst/>
            <a:gdLst>
              <a:gd name="textAreaLeft" fmla="*/ 0 w 431640"/>
              <a:gd name="textAreaRight" fmla="*/ 155880 w 431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26"/>
                </a:lnTo>
                <a:cubicBezTo>
                  <a:pt x="10800" y="10126"/>
                  <a:pt x="16200" y="11026"/>
                  <a:pt x="21600" y="11026"/>
                </a:cubicBezTo>
                <a:cubicBezTo>
                  <a:pt x="16200" y="11026"/>
                  <a:pt x="10800" y="11926"/>
                  <a:pt x="10800" y="1282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59640" y="1386000"/>
            <a:ext cx="1225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lipsis, deixis and anaphors with syntactic g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1314360"/>
            <a:ext cx="936360" cy="3095640"/>
          </a:xfrm>
          <a:custGeom>
            <a:avLst/>
            <a:gdLst>
              <a:gd name="textAreaLeft" fmla="*/ 0 w 936360"/>
              <a:gd name="textAreaRight" fmla="*/ 338040 w 93636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67480" y="3062160"/>
            <a:ext cx="9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ph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2000" y="1241280"/>
            <a:ext cx="2663640" cy="5616720"/>
          </a:xfrm>
          <a:custGeom>
            <a:avLst/>
            <a:gdLst>
              <a:gd name="textAreaLeft" fmla="*/ 0 w 2663640"/>
              <a:gd name="textAreaRight" fmla="*/ 961920 w 266364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110"/>
                </a:lnTo>
                <a:cubicBezTo>
                  <a:pt x="10800" y="10010"/>
                  <a:pt x="16200" y="10910"/>
                  <a:pt x="21600" y="10910"/>
                </a:cubicBezTo>
                <a:cubicBezTo>
                  <a:pt x="16200" y="10910"/>
                  <a:pt x="10800" y="11810"/>
                  <a:pt x="10800" y="127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03120" y="455292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te N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21640" y="582444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via-ident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antece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to choose the right antece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via-in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of anch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g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the propositions accepted by the discourse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contains the inferences drawn from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knowledge of the worl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bout entities and the relations holding among th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bout situa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ed by means of ontologi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2560" y="1268280"/>
            <a:ext cx="7777080" cy="403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060640"/>
            <a:ext cx="7200720" cy="2952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1413000"/>
            <a:ext cx="2448000" cy="57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906560" y="3716280"/>
            <a:ext cx="5032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4560" y="3213000"/>
            <a:ext cx="57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par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4560" y="414972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581360"/>
            <a:ext cx="719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4221000"/>
            <a:ext cx="649440" cy="21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3213000"/>
            <a:ext cx="50328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781360"/>
            <a:ext cx="5745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8" idx="2"/>
            <a:endCxn id="211" idx="0"/>
          </p:cNvCxnSpPr>
          <p:nvPr/>
        </p:nvCxnSpPr>
        <p:spPr>
          <a:xfrm flipH="1">
            <a:off x="2123280" y="4005360"/>
            <a:ext cx="35640" cy="57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8" idx="1"/>
            <a:endCxn id="210" idx="3"/>
          </p:cNvCxnSpPr>
          <p:nvPr/>
        </p:nvCxnSpPr>
        <p:spPr>
          <a:xfrm flipH="1">
            <a:off x="1617480" y="3860280"/>
            <a:ext cx="289440" cy="39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08" idx="1"/>
            <a:endCxn id="209" idx="3"/>
          </p:cNvCxnSpPr>
          <p:nvPr/>
        </p:nvCxnSpPr>
        <p:spPr>
          <a:xfrm flipH="1" flipV="1">
            <a:off x="1690200" y="3320280"/>
            <a:ext cx="21672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08" idx="0"/>
            <a:endCxn id="214" idx="2"/>
          </p:cNvCxnSpPr>
          <p:nvPr/>
        </p:nvCxnSpPr>
        <p:spPr>
          <a:xfrm flipH="1" flipV="1">
            <a:off x="2121840" y="2996640"/>
            <a:ext cx="3708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2" idx="1"/>
            <a:endCxn id="208" idx="3"/>
          </p:cNvCxnSpPr>
          <p:nvPr/>
        </p:nvCxnSpPr>
        <p:spPr>
          <a:xfrm flipH="1" flipV="1">
            <a:off x="2409480" y="3860280"/>
            <a:ext cx="218160" cy="47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0" name=""/>
          <p:cNvCxnSpPr>
            <a:stCxn id="208" idx="3"/>
            <a:endCxn id="213" idx="1"/>
          </p:cNvCxnSpPr>
          <p:nvPr/>
        </p:nvCxnSpPr>
        <p:spPr>
          <a:xfrm flipV="1">
            <a:off x="2409840" y="3320280"/>
            <a:ext cx="14688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3995640" y="3068640"/>
            <a:ext cx="647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taur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30560" y="3789360"/>
            <a:ext cx="57636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067280" y="4508640"/>
            <a:ext cx="57600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0920" y="3789360"/>
            <a:ext cx="57600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21" idx="2"/>
            <a:endCxn id="222" idx="3"/>
          </p:cNvCxnSpPr>
          <p:nvPr/>
        </p:nvCxnSpPr>
        <p:spPr>
          <a:xfrm flipH="1">
            <a:off x="3706560" y="3355920"/>
            <a:ext cx="61344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21" idx="2"/>
            <a:endCxn id="223" idx="0"/>
          </p:cNvCxnSpPr>
          <p:nvPr/>
        </p:nvCxnSpPr>
        <p:spPr>
          <a:xfrm>
            <a:off x="4319280" y="3355920"/>
            <a:ext cx="3708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21" idx="2"/>
            <a:endCxn id="224" idx="1"/>
          </p:cNvCxnSpPr>
          <p:nvPr/>
        </p:nvCxnSpPr>
        <p:spPr>
          <a:xfrm>
            <a:off x="4319640" y="3355920"/>
            <a:ext cx="612000" cy="54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222" idx="2"/>
            <a:endCxn id="223" idx="1"/>
          </p:cNvCxnSpPr>
          <p:nvPr/>
        </p:nvCxnSpPr>
        <p:spPr>
          <a:xfrm>
            <a:off x="3419280" y="4005000"/>
            <a:ext cx="648360" cy="61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223" idx="3"/>
            <a:endCxn id="224" idx="2"/>
          </p:cNvCxnSpPr>
          <p:nvPr/>
        </p:nvCxnSpPr>
        <p:spPr>
          <a:xfrm flipV="1">
            <a:off x="4642920" y="4004640"/>
            <a:ext cx="577080" cy="611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6588000" y="2997360"/>
            <a:ext cx="57636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96000" y="3573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1280" y="3573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38920" y="3573360"/>
            <a:ext cx="287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0" idx="1"/>
            <a:endCxn id="231" idx="0"/>
          </p:cNvCxnSpPr>
          <p:nvPr/>
        </p:nvCxnSpPr>
        <p:spPr>
          <a:xfrm flipH="1">
            <a:off x="6084360" y="3104640"/>
            <a:ext cx="50400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30" idx="2"/>
            <a:endCxn id="232" idx="0"/>
          </p:cNvCxnSpPr>
          <p:nvPr/>
        </p:nvCxnSpPr>
        <p:spPr>
          <a:xfrm>
            <a:off x="6877080" y="3212640"/>
            <a:ext cx="50400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30" idx="3"/>
            <a:endCxn id="233" idx="0"/>
          </p:cNvCxnSpPr>
          <p:nvPr/>
        </p:nvCxnSpPr>
        <p:spPr>
          <a:xfrm>
            <a:off x="7164360" y="3104640"/>
            <a:ext cx="72000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5580000" y="4365720"/>
            <a:ext cx="719280" cy="215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J.R.Tolk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443640" y="4292640"/>
            <a:ext cx="1008000" cy="287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rd of the 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4221000"/>
            <a:ext cx="576000" cy="144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ce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88000" y="4221000"/>
            <a:ext cx="576000" cy="14472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ce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38920" y="378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75640" y="3213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99280" y="4437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95640" y="2492280"/>
            <a:ext cx="647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2781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1640" y="206064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UAL, SITUATIONAL AND WORLD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via-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discourse-record provides the entities available as anchors ordered in terms of sal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of the world provides the relations holding among the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ing to which entity in the focus of attention and by which relation the entity provided in the fragment or by the NP is related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ing entities in the focus of attention taken as arguments by the property stated in the fra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ump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via-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Did Anastasia release any CD last yea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 Yes, „Left outside alone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ny Gramm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: “Left outside alone “ (+ salient) and “Anastasia” (-sali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upon the ontology only artists are awarded with Grammies, so “Any Grammy” must be resolved like “Has Anastasia been awarded with any Grammy?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71640" y="2997360"/>
            <a:ext cx="7416720" cy="2808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5280" y="765000"/>
            <a:ext cx="2232000" cy="3311640"/>
          </a:xfrm>
          <a:prstGeom prst="can">
            <a:avLst>
              <a:gd name="adj" fmla="val 13134"/>
            </a:avLst>
          </a:prstGeom>
          <a:solidFill>
            <a:srgbClr val="99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2: Grammy(z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1: „Left outside alone“(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Q1: Anastasia(x) CD(y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lease(x,y) last year(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35280" y="3429000"/>
            <a:ext cx="2232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5280" y="2997360"/>
            <a:ext cx="2232000" cy="0"/>
          </a:xfrm>
          <a:prstGeom prst="line">
            <a:avLst/>
          </a:prstGeom>
          <a:ln cap="rnd" w="381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92720" y="3284640"/>
            <a:ext cx="2808360" cy="21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5640" y="3502080"/>
            <a:ext cx="647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sici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236000" y="3429000"/>
            <a:ext cx="72072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zes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sici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083280" y="3646080"/>
            <a:ext cx="1153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6227640" y="3716280"/>
            <a:ext cx="936720" cy="3603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award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4654440"/>
            <a:ext cx="64764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sta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236000" y="4653000"/>
            <a:ext cx="72072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mm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56" idx="2"/>
            <a:endCxn id="260" idx="0"/>
          </p:cNvCxnSpPr>
          <p:nvPr/>
        </p:nvCxnSpPr>
        <p:spPr>
          <a:xfrm>
            <a:off x="5758920" y="3789000"/>
            <a:ext cx="10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3" name=""/>
          <p:cNvCxnSpPr>
            <a:stCxn id="257" idx="2"/>
            <a:endCxn id="261" idx="0"/>
          </p:cNvCxnSpPr>
          <p:nvPr/>
        </p:nvCxnSpPr>
        <p:spPr>
          <a:xfrm>
            <a:off x="7596000" y="3862440"/>
            <a:ext cx="1080" cy="791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1187280" y="4581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580000" y="549360"/>
            <a:ext cx="2016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: Any Gramm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140360" y="1054080"/>
            <a:ext cx="1441440" cy="237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95640" y="3933720"/>
            <a:ext cx="1224000" cy="574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0000" y="1054080"/>
            <a:ext cx="1224000" cy="2158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via-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idging definite descriptions can be resolved in a similar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ncoding of world and situational knowledge (scripts) in the ontology allows to resolve examples like this (Sundial Corp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: have you got a flight coming in from los angeles eleven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: arh heathrow or gatwick, s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: heathr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ling with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gment can be ambiguous: several candidates in the discourse-record, several candidate relations in the ontology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 possible candidates: saliency, proximity of nodes in the ontology, plausibility of the relations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factors: the user model, the communicative contex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llecting data with a Wizard-of-Oz experiment. Browsing information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r in the discourse record can antecedent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long does memory for syntactic structure l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ntually, ambiguity resolution experiment. Presenting subjects with fragments with different degrees of ambigu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uch weight has each of the different factors involved in disambiguation (knowledge, saliency, semantics, interlocutionary knowledge, communicative contex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-related phenom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iptical frag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via-identit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 substitution and extens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via-inferenc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e N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artial co-referenc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bridg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ailability of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far in the discourse record can antecedents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utterances in between affect the availability of antece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 of sentences in mem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onological form of sentences stays for a short time in memory and then rapidly decays (Anderson, 1974; Glanzer, 1984; Kintsch and van Dijk, 1978, 1983, a.o.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idence for syntactic organization in the immediate memory of sentences (Walker, Gough, and Wall, 1968), which decays after the phonological for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propositional representation of sentences lasts longer in memo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t is integrated in a wider representation of the discourse meaning plus the inferences drawn from it or it is partially forgott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and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eriments report that in reading tasks subjects are able to recall at most the last two sentences (Jarvella, 197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recognition tasks subjects are sometimes able to remember the syntactic structure of a sentence two minutes later (Anderson, 197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tention seems to play an important role on deciding what is kept in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mory and antece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othesis 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ose utterances whose syntactic structure is still in memory are available as antece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ypothesis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ory for syntactic structure: two previous tu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rse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structure with information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gree of activation in memory of each representation level of the sent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ech act performed by every senten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eaker who contributed th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 you just said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ing back to your questio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692360" y="1197000"/>
          <a:ext cx="6326280" cy="4657680"/>
        </p:xfrm>
        <a:graphic>
          <a:graphicData uri="http://schemas.openxmlformats.org/drawingml/2006/table">
            <a:tbl>
              <a:tblPr/>
              <a:tblGrid>
                <a:gridCol w="1014480"/>
                <a:gridCol w="890280"/>
                <a:gridCol w="1017720"/>
                <a:gridCol w="1015920"/>
                <a:gridCol w="1016280"/>
                <a:gridCol w="1371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s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31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pea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…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6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0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427640" y="333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27640" y="6021360"/>
            <a:ext cx="485640" cy="647640"/>
          </a:xfrm>
          <a:prstGeom prst="downArrow">
            <a:avLst>
              <a:gd name="adj1" fmla="val 50000"/>
              <a:gd name="adj2" fmla="val 333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60280"/>
            <a:ext cx="21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iscourse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7:23:03Z</dcterms:created>
  <dc:creator>nuria</dc:creator>
  <dc:description/>
  <dc:language>en-US</dc:language>
  <cp:lastModifiedBy>nuria</cp:lastModifiedBy>
  <dcterms:modified xsi:type="dcterms:W3CDTF">2005-02-02T22:07:10Z</dcterms:modified>
  <cp:revision>5</cp:revision>
  <dc:subject/>
  <dc:title>Towards a Model of Reference and Ellipsis Resolution for Question Answering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89314687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