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50C-34CA-4F76-8493-E33A7426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2CE-0A26-4C2F-9E10-CCCA0B3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122-C153-4318-88FD-A5161986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1B9-DA14-408E-B94D-7024AE7D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79DD-9F92-4004-BAEF-DA65594D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6FDB-586C-4782-90D5-3D7E8502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381A-4ECF-4016-9D44-CFF6CD33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1631-C04D-461C-8BE1-A5C8B837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F690-8C71-4097-9F31-9E15561D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0347-C1D7-4F0A-A119-2434D483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9C09-FCF6-424E-81B8-8D49CC0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233-6046-4E25-87DB-DC8D0918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48FC-1849-49FD-8317-4A9997D3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DEC4-7282-48EB-A5A2-7B52DBBC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7C6D-7BBB-4787-A74B-211EFC82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6192-ECF6-4CFB-9C86-DAB83C02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763C-AB0D-485D-BCF9-C3B645E2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5DC-389B-44EB-949B-3B568687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9FF-362F-4F65-9A4E-684CD84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B98-42F9-4BC1-BC77-B5D5C03C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30F-BFB3-4D17-9A19-5C3F9069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D0D-E266-493B-B99E-34AFB5A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45A-3EED-4FA7-9B94-94A6C20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5AF-7331-4FF8-811C-B3AB9E80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B3A-288B-46C1-BEFA-77BCD6E1FB14}" type="datetime3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D32B-0720-4C8B-AB2D-42684D766F2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7FC6-872E-4C40-BF6D-19AD9D1C32B3}" type="datetime3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C1A2-DA55-4872-872C-D9E6188F5D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560" y="192528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Comic Sans MS"/>
              </a:rPr>
              <a:t>Evoking and Assessing Cooperation in Dialogue (Systems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Talk in the EGK-colloquium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Dec 3, 2001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Bettina Brau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Existing dialogue systems (I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echnique: finite-state-automata, transitions and speech output (mainly canned speech) determined by key-word or key-phrase spotte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obligatory mapping to items in lexic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ifference in how information slots are fill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Barge-in not always allow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Speech output not prosodically adapted wrt.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given/new inform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ertainty in checks/query-YN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4986-8278-494E-A0ED-EED468B17B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85244-2D70-45F9-8CA4-85CEC6893EFE}" type="datetime3">
              <a:rPr lang="en-US"/>
              <a:t>July 29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Existing dialogue systems (II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Often (?) successful interaction, becaus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users are very adaptiv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only limited domain application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BUT: user satisfaction also importan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ertainty of checks (which check </a:t>
            </a:r>
            <a:r>
              <a:rPr b="0" lang="en-GB" sz="2600" spc="-1" strike="noStrike" u="sng">
                <a:solidFill>
                  <a:srgbClr val="402000"/>
                </a:solidFill>
                <a:uFillTx/>
                <a:latin typeface="Times New Roman"/>
              </a:rPr>
              <a:t>wrong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info)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formation packaging mostly inappropriat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ce9964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user frustration 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EB2-84D5-4070-8326-48029086F5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834E4-8A40-422B-A4DB-36F923B04A67}" type="datetime3">
              <a:rPr lang="en-US"/>
              <a:t>July 29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How to deal with frustrated users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utomatic detection of anger to pass over to human operator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very difficult task (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f. Batliner et al. 2000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ifferent strategies of clarification initiations (e.g. excuses by system,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f. Fischer 2000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pproach here: Find out which “system behaviour” is judged positively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ppropriat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ooperativ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4CB-079F-44E4-84CC-366751D676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970B7-897B-491C-89AF-FE3A07B11E48}" type="datetime3">
              <a:rPr lang="en-US"/>
              <a:t>July 29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Overall experimental design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vestigate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user behaviour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in 4 condition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oZ with synthesised speech outp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WoZ with “canned” speec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human operator with restricted set of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utterance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(human operator with free interaction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sk subjects to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judge appropriateness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of each “system’s” behaviour (set of subjects!!!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9E5-F739-4C92-803A-63C25B26C6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1EEBF-93B5-4749-BCD8-1EAE8247C5D4}" type="datetime3">
              <a:rPr lang="en-US"/>
              <a:t>July 29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Experimental design (overview): How do human “bankers” behave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Production study with 12 human operator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tudio recordings of all possible utterances (16)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nteractive condition with </a:t>
            </a:r>
            <a:r>
              <a:rPr b="0" lang="en-GB" sz="2800" spc="-1" strike="noStrike" u="sng">
                <a:solidFill>
                  <a:srgbClr val="402000"/>
                </a:solidFill>
                <a:uFillTx/>
                <a:latin typeface="Times New Roman"/>
              </a:rPr>
              <a:t>restricted set of utterances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and believed custom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valuation of dialogue structur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especially check vs. query-Y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ertainty/uncertainty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fter previous correction by custom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Perception tes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458-4859-4DB0-9EB5-4960EF0B92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8F049-EEE8-44D7-8FD0-B67A6755FA40}" type="datetime3">
              <a:rPr lang="en-US"/>
              <a:t>July 29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Why this setting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Banking scenario very familia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omain small, but extendable (transferal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Studio recordings as “no context condition”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Restricted set of utterances to simulate real systems and to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exclude other factors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that signal coopera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daptation to lexical and syntactic form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daptation to utterance length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different customers to exclude adaptation to voice characteristics, f</a:t>
            </a:r>
            <a:r>
              <a:rPr b="0" lang="en-GB" sz="26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,..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58F-E334-4D0D-80C8-DF6D453B23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F5DD2-E7B8-4366-9407-969989A02BB9}" type="datetime3">
              <a:rPr lang="en-US"/>
              <a:t>July 29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llecting and preparing “customer” dat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Limited domain WoZ system with bad performanc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2FC-B21E-4E33-BD00-AC4990BB87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4AC5C-0B6D-430C-8583-875DC61A2893}" type="datetime3">
              <a:rPr lang="en-US"/>
              <a:t>July 29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llecting and preparing “customer” dat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Limited domain WoZ system with bad performanc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819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Deposit or withdraw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743200"/>
            <a:ext cx="3048120" cy="5335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581280"/>
            <a:ext cx="28191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How much withdraw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3581280"/>
            <a:ext cx="274320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581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How much deposit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4419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heck amount &amp; a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419720"/>
            <a:ext cx="30477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5334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lease take your mone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5257800"/>
            <a:ext cx="3276720" cy="6094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334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lease put money in c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5257800"/>
            <a:ext cx="3505320" cy="6094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352680"/>
            <a:ext cx="0" cy="281952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0400" y="2819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ardon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743200"/>
            <a:ext cx="1295280" cy="60948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4197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heck amount &amp; a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419720"/>
            <a:ext cx="304812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A1F-788C-44C5-BB3A-4FA0CBC1E6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EB20C-766F-486A-A75F-0E4BC5B4A062}" type="datetime3">
              <a:rPr lang="en-US"/>
              <a:t>July 29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llecting and preparing “customer” dat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Limited domain WoZ system with bad performanc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ata collection: 5 customers (4 task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Parts of these signals were distort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mount of money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(I want to withdraw </a:t>
            </a:r>
            <a:r>
              <a:rPr b="0" lang="en-GB" sz="2400" spc="-1" strike="noStrike">
                <a:solidFill>
                  <a:srgbClr val="996633"/>
                </a:solidFill>
                <a:latin typeface="Times New Roman"/>
              </a:rPr>
              <a:t>2x 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DEM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ction: withdraw or deposit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(I want to </a:t>
            </a:r>
            <a:r>
              <a:rPr b="0" lang="en-GB" sz="2400" spc="-1" strike="noStrike">
                <a:solidFill>
                  <a:srgbClr val="996633"/>
                </a:solidFill>
                <a:latin typeface="Times New Roman"/>
              </a:rPr>
              <a:t>xxx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5000 DEM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46483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3880" y="38098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406-D706-457E-8AB9-CFAD20267A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7241E-1C38-4A0D-B164-BA943204250F}" type="datetime3">
              <a:rPr lang="en-US"/>
              <a:t>July 29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nstructing possible dialogues..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Dialogue interaction with 7 customer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hinks to consider: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(re)action of operator must be predictable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ustomer sound files must be prepared for each possible react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ustomer’s utterances must fit (prosodically) into the dialogue (e.g. hyperarticulation in corrections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Problem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: customer reactions for free 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teraction can not be simulated!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19B-3F07-4F1E-B01C-4BF71DEC99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BE4F3-A8BC-4005-A160-A3DA07033A32}" type="datetime3">
              <a:rPr lang="en-US"/>
              <a:t>July 29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ntent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troduction: what I did so far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What is cooperation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 general term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 phonetic term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Plans from now on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: user behaviour in interaction with dialogue systems and human operator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periment: cooperative operators, 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239-4B08-457B-BE23-C1750B9BBC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144F7-C745-44B4-AC20-20B5A985E14B}" type="datetime3">
              <a:rPr lang="en-US"/>
              <a:t>July 29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Instruction of operators as bank assistant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Utterances restricted to set of utteranc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Deposit or withdraw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2438280"/>
            <a:ext cx="3048120" cy="53352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276720"/>
            <a:ext cx="28191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76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How much withdraw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276720"/>
            <a:ext cx="274320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How much deposit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heck amount &amp; a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4114800"/>
            <a:ext cx="304776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lease take your mone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952880"/>
            <a:ext cx="3276720" cy="6098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5029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lease put money in c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4952880"/>
            <a:ext cx="3505320" cy="6098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048120"/>
            <a:ext cx="0" cy="281916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Pardon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438280"/>
            <a:ext cx="1295280" cy="60984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Check amount &amp; a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4114800"/>
            <a:ext cx="3048120" cy="457200"/>
          </a:xfrm>
          <a:prstGeom prst="rect">
            <a:avLst/>
          </a:pr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695-3F56-470B-9503-4590982041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4EFD9-D1D3-4CC4-BAAE-CD52DF6EC556}" type="datetime3">
              <a:rPr lang="en-US"/>
              <a:t>July 29, 20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Stimuli and (expected) reac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mount not mentioned/distort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 want to withdraw money”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 want to withdraw xxxx”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02000"/>
                </a:solidFill>
                <a:latin typeface="Times New Roman"/>
              </a:rPr>
              <a:t>How much do you want to withdraw? (But with differing intonation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 want to withdraw DEM 2xx”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402000"/>
                </a:solidFill>
                <a:latin typeface="Times New Roman"/>
              </a:rPr>
              <a:t>You want to withdraw DEM 2000 (200), then? (query-YN-like, because of uncertainty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73392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Inappropriate intonat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5486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Certain check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FAC-2E00-4FEA-8BB3-D1C1B7CB659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73860-9E39-4A7C-9311-FA2ADE7F8A73}" type="datetime3">
              <a:rPr lang="en-US"/>
              <a:t>July 29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Stimuli and (expected) reac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ction distort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want to xxx money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 want to xxx DEM 5000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Do you want to deposit or withdraw       money?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(Do you want to deposit or withdraw DEM 5000 is no possibility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952880"/>
            <a:ext cx="68580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d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How much do you want to deposit/withdraw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d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cd3333"/>
                </a:solidFill>
                <a:latin typeface="Times New Roman"/>
              </a:rPr>
              <a:t>Pardon?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B56-1892-4F10-83AA-3BDD5F20AB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EE152-B074-4821-9EBB-53521F040467}" type="datetime3">
              <a:rPr lang="en-US"/>
              <a:t>July 29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1532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csW-YN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86600" cy="5932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4290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391520" y="2743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E70-60E4-4C0B-BF31-291E3E6E4B02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29575-1BD9-47E4-B7D6-6640758FB02F}" type="datetime3">
              <a:rPr lang="en-US"/>
              <a:t>July 29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Stimuli and (expected) reac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heck after user correc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pologising impress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Query-W after user correc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ction distorted: shift from question particle to deposit or withdraw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Repeated misunderstanding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hange intonation of “pardon?”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334120"/>
            <a:ext cx="60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d3333"/>
                </a:solidFill>
                <a:latin typeface="Times New Roman"/>
              </a:rPr>
              <a:t>add explain to “pardon?”, react with a check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38098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d3333"/>
                </a:solidFill>
                <a:latin typeface="Times New Roman"/>
              </a:rPr>
              <a:t>did not happe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D16-DF8F-4DE8-92B4-DFF27E53B4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87F25-804F-433C-AEBE-B859E79C944E}" type="datetime3">
              <a:rPr lang="en-US"/>
              <a:t>July 29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Reasons for not being cooperative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umans </a:t>
            </a:r>
            <a:r>
              <a:rPr b="1" lang="en-GB" sz="3000" spc="-1" strike="noStrike">
                <a:solidFill>
                  <a:srgbClr val="402000"/>
                </a:solidFill>
                <a:latin typeface="Times New Roman"/>
              </a:rPr>
              <a:t>are not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cooperative (v. map task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Situation too unnatura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no real customer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permitted utterances normally not actively us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ask too complicate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too less time to get used to utterances, i.e. finding     the fitting one poses problems (mapping problem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signal quality of customers too poor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Operators indeed understood every customer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119-42D0-47BD-A9AD-85E90212FC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82CF7-5926-4276-9706-2C1A594B2145}" type="datetime3">
              <a:rPr lang="en-US"/>
              <a:t>July 29, 20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ossible solu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ssessment of signal quality: ratings from 1 to 6 after each dialogue (=&gt; very poor rate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crease familiarity with utterances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fist: role games with experimenter (maybe with changed roles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first ratings of appropriateness, cooperation, etc. of other operator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two runs, discussing problems of first run in between (real customers no more believed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6D7-8BA0-4E42-81A9-C3D458B5C8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22D6D-4923-40BF-9477-0B212D8E7509}" type="datetime3">
              <a:rPr lang="en-US"/>
              <a:t>July 29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Which “behaviour” is appropriate for dialogue systems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Should systems behave like humans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ssessment of cooperation, appropriateness, etc. under 2 conditions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ssuming that human-human interaction is judg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ssuming that man-machine interaction is judg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72F-9699-48A7-B010-B5C03E5C62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E3B26-7EBE-45D3-9031-8685C21A46FF}" type="datetime3">
              <a:rPr lang="en-US"/>
              <a:t>July 29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Assessment of cooperation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User satisfaction in interaction with dialogues (e.g. PARADISE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M.Walker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): mixed-initiative vs. system-initiative,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ssessing appropriateness, naturalness of synthetic speech output (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f J.House, S.Hawkins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How to tease dialogue behaviour and prosodic cues to cooperation apart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448-CA47-42B8-BFD4-B49E37E17C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2B2F8-DC6B-4D5C-AE59-95935DBADD63}" type="datetime3">
              <a:rPr lang="en-US"/>
              <a:t>July 29, 20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erception test I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mparison between studio and interactive behaviour of </a:t>
            </a:r>
            <a:r>
              <a:rPr b="0" i="1" lang="en-GB" sz="3000" spc="-1" strike="noStrike">
                <a:solidFill>
                  <a:srgbClr val="402000"/>
                </a:solidFill>
                <a:latin typeface="Times New Roman"/>
              </a:rPr>
              <a:t>same dialogue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with respect t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ooperation, friendlines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naturalness, appropriateness of operator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only possible for selected cooperative utterances!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teractive conditions contain a lot of extralinguistic noise (breathing, smacking, long pauses) =&gt; “clean” them before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teractive: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ce9964"/>
                </a:solidFill>
                <a:latin typeface="Monotype Sorts"/>
                <a:ea typeface="Monotype Sorts"/>
              </a:rPr>
              <a:t>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studio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29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72200" y="5562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3EE-2BA7-4A55-86DA-78716E912E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564B5-0746-4B0B-BA39-402531153884}" type="datetime3">
              <a:rPr lang="en-US"/>
              <a:t>July 29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So far: Error-resolution in computer-directed speech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yperarticulation to correct machin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creased error-rates in ASR-system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Find solutions for ASR to cover changes i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GB" sz="26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-movement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intensity/spectral tilt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durat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segmental realisation, e.g. formant values,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F31-C4FA-4A3E-9D71-53FE3EC8ED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5088D-2B17-4D91-92CF-8E83C9F83DBA}" type="datetime3">
              <a:rPr lang="en-US"/>
              <a:t>July 29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erception test II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mparison of dialogues with </a:t>
            </a:r>
            <a:r>
              <a:rPr b="0" i="1" lang="en-GB" sz="3000" spc="-1" strike="noStrike">
                <a:solidFill>
                  <a:srgbClr val="402000"/>
                </a:solidFill>
                <a:latin typeface="Times New Roman"/>
              </a:rPr>
              <a:t>same goal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but different operators to evaluate different (prosodic and non-prosodic ???) strategies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too many variables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dialectal influenc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male/female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voice characteristic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amples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ce9964"/>
                </a:solidFill>
                <a:latin typeface="Monotype Sorts"/>
                <a:ea typeface="Monotype Sorts"/>
              </a:rPr>
              <a:t>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81080" y="5562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D78-08BF-441A-8002-058F0D610B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5B498-6DCF-4283-A823-39989F79BAA7}" type="datetime3">
              <a:rPr lang="en-US"/>
              <a:t>July 29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Remaining questions...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ow to build a “natural”, but controllable environment for collecting cooperative operator data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First perform a map-task to investigate cooperation in human-human dialogue? (changed roles?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09D-34B4-4FEE-BA66-2894C7826B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AB244-5F0B-494D-A2E1-52BDD095F8C6}" type="datetime3">
              <a:rPr lang="en-US"/>
              <a:t>July 29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ilot study in speech-operated lift 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voke corrections in several focus conditions, triggered by system’s outpu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broad focu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narrow focu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ontrastive focus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Broad focus not possible in that domain!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ncept of contrastive vs. narrow very vague 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For phonetic analysis too poor signal quality (noise, reverberation, off-talk, ...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BF9-F84B-4101-9EE5-F0BB66724A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FA0C7-8177-4D76-AC53-44229AD9E5A9}" type="datetime3">
              <a:rPr lang="en-US"/>
              <a:t>July 29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Loophole -- possible ways to go..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New recordings with more elaborated system to evoke hyperarticulation in several contexts (and focus condition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ce9964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already quite thoroughly analysed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cept for hyperarticulation various forms of “emotions” and attitudes (uncertainty, anger), e.g. calling contour in addressing the lif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Analysis of global behaviour of users, because..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D1F-1A10-49A9-A8CC-9D5EFDE91A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E0C84-B5D7-40BE-AB2F-19F060F1627F}" type="datetime3">
              <a:rPr lang="en-US"/>
              <a:t>July 29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Communicative situation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mputer-directed speech differs from “normal” conversation (back-channels, interruptions, visual co-presence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Conceptual processing is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partner-dependent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(e.g. mutual beliefs, grounding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rror-resolution demands cooperation!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motional component (relationship to computer, wrt. greetings, politeness, etc.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A5B-B2BC-4F97-89AC-F5F4EFA240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8E293-697D-4119-ACC6-C56AB3C20C7D}" type="datetime3">
              <a:rPr lang="en-US"/>
              <a:t>July 29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Now: Analysis of human behaviour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Interest in human behaviour when interacting with machines (as opposed to human partners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ow would “human operators” act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ow can </a:t>
            </a:r>
            <a:r>
              <a:rPr b="1" lang="en-GB" sz="3000" spc="-1" strike="noStrike">
                <a:solidFill>
                  <a:srgbClr val="402000"/>
                </a:solidFill>
                <a:latin typeface="Times New Roman"/>
              </a:rPr>
              <a:t>cooperation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be evoked in dialogue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56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How can cooperation be assessed (in dialogue systems)?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AD5-D7F6-41E7-9B1A-1B7F37EFCA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FAB46-215C-4D48-8F4B-1BD5A3CFE95C}" type="datetime3">
              <a:rPr lang="en-US"/>
              <a:t>July 29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“</a:t>
            </a: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Definition” of Cooperation </a:t>
            </a:r>
            <a:r>
              <a:rPr b="0" lang="en-GB" sz="2000" spc="-1" strike="noStrike">
                <a:solidFill>
                  <a:srgbClr val="996633"/>
                </a:solidFill>
                <a:latin typeface="Comic Sans MS"/>
              </a:rPr>
              <a:t>(Allwood 76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ake partner in cognitive considera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Joint purpose (of understanding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thical consideration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not to hurt each oth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not to force each oth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facilitate rational behaviou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Trust to act in accordance with above points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DA9-A3B7-483C-ABB9-D8A22A771C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2BC71-F16B-4DE9-A6EA-3D5CED23D04F}" type="datetime3">
              <a:rPr lang="en-US"/>
              <a:t>July 29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6633"/>
                </a:solidFill>
                <a:latin typeface="Comic Sans MS"/>
              </a:rPr>
              <a:t>Phonetic Realisation of Cooperation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0000" indent="-2700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pressing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degree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of “understanding”, either by appropriate dialogues act or prosody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36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cinema info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ie möchten in N. den Film “..” SEHEN?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453600">
              <a:spcBef>
                <a:spcPts val="49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train timetable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ann möchten Sie von SB nach HH fahren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70000" indent="-27000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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Expressing </a:t>
            </a:r>
            <a:r>
              <a:rPr b="0" lang="en-GB" sz="3000" spc="-1" strike="noStrike" u="sng">
                <a:solidFill>
                  <a:srgbClr val="402000"/>
                </a:solidFill>
                <a:uFillTx/>
                <a:latin typeface="Times New Roman"/>
              </a:rPr>
              <a:t>what part</a:t>
            </a:r>
            <a:r>
              <a:rPr b="0" lang="en-GB" sz="3000" spc="-1" strike="noStrike">
                <a:solidFill>
                  <a:srgbClr val="402000"/>
                </a:solidFill>
                <a:latin typeface="Times New Roman"/>
              </a:rPr>
              <a:t> of information was not understood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36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Shift focus to appropriate position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lvl="1" marL="453600">
              <a:spcBef>
                <a:spcPts val="649"/>
              </a:spcBef>
              <a:buClr>
                <a:srgbClr val="ce9964"/>
              </a:buClr>
              <a:buFont typeface="Monotype Sorts" charset="2"/>
              <a:buChar char=""/>
              <a:tabLst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402000"/>
                </a:solidFill>
                <a:latin typeface="Times New Roman"/>
              </a:rPr>
              <a:t>deaccent understood information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33526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9764600">
            <a:off x="6477480" y="495216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e9964"/>
                </a:solidFill>
                <a:latin typeface="Times New Roman"/>
              </a:rPr>
              <a:t>Importance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764000">
            <a:off x="6514920" y="5017680"/>
            <a:ext cx="1904760" cy="380880"/>
          </a:xfrm>
          <a:prstGeom prst="rect">
            <a:avLst/>
          </a:prstGeom>
          <a:noFill/>
          <a:ln w="284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ttina Braun, Institiute of Phonet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364-719B-433B-B92E-D67A94855E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A0193-9268-4542-8BE4-1F8233AA5304}" type="datetime3">
              <a:rPr lang="en-US"/>
              <a:t>July 29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10:34:49Z</dcterms:created>
  <dc:creator>bebr</dc:creator>
  <dc:description/>
  <dc:language>en-US</dc:language>
  <cp:lastModifiedBy>bebr</cp:lastModifiedBy>
  <cp:lastPrinted>2001-11-18T12:13:20Z</cp:lastPrinted>
  <dcterms:modified xsi:type="dcterms:W3CDTF">2001-12-03T08:53:13Z</dcterms:modified>
  <cp:revision>65</cp:revision>
  <dc:subject/>
  <dc:title>Users in Man-man and Man-machine interaction</dc:title>
</cp:coreProperties>
</file>